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657BC-638E-42CD-8C5C-90C6FA4509B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untry’s Greatest Pres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Jeff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untry’s Greatest Pres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Adams, the 1st President to live in Washington, D.C., leaves before Jefferson’s inaug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s Inauguration takes place on March 4, 1801 in Washington, D.C.—the 1st don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finished White House and Capitol were just about the only buildings in t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Adams, the 1st President to live in Washington, D.C., leaves before Jefferson’s inaug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s Inauguration takes place on March 4, 1801 in Washington, D.C.—the 1st done t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finished White House and Capitol were just about the only buildings in t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ists fear what Jefferson will say—will he start a new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surprisingly, calls for unity—he states “We are all Republicans, we are all Federal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DOES NOT propose to change or destroy the structure of the federal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ists fear what Jefferson will say—will he start a new revol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surprisingly, calls for unity—he states “We are all Republicans, we are all Federalis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DOES NOT propose to change or destroy the structure of the federal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Accomplishments made during early part of Jefferson’s 1st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ointed Albert Gallatin as Secretary of the Treas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 military spe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the army from 4000 to 2500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the navy from 25 to 7 sh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national debt from $83 million to $45 mil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 ALL internal ta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complishments made during early part of Jefferson’s 1st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ointed Albert Gallatin as Secretary of the Treasu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military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the army from 4000 to 2500 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the navy from 25 to 7 shi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national debt from $83 million to $45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ALL internal tax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Accomplishments made during early part of Jefferson’s 1st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source of government income: tariffs and sales of Western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the Alien and Sedition Acts exp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complishments made during early part of Jefferson’s 1st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ource of government income: tariffs and sales of Western 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the Alien and Sedition Acts expi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Issues with the Cou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bury vs. Madison:  Does William Marbury, one of John Adams’ last minute “midnight judges,” receive his commission to be judge or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had James Madison refuse to give the commission to Marb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ue went before the Supreme Cou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ling became a precedent—an example for future court c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Issues with the Cour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bury vs. Madison:  Does William Marbury, one of John Adams’ last minute “midnight judges,” receive his commission to be judge or n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had James Madison refuse to give the commission to Marbu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went before the Supreme Cou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ing became a precedent—an example for future court c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Issues with the Cou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Marbury vs. Madison, the Supreme Court established the concept of “Judicial Review” of la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dicial Review means that the Court may decide if a law is constitutional or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law is judged to be unconstitutional, or goes against the U.S. Constitution, then the law ceases to be a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Issues with the Cour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rbury vs. Madison, the Supreme Court established the concept of “Judicial Review” of law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dicial Review means that the Court may decide if a law is constitutional or n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law is judged to be unconstitutional, or goes against the U.S. Constitution, then the law ceases to be a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00, the western boundary of the U.S. was the Mississip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uisiana Territory, that is all lands west of the Mississippi River which drained into the river, was originally controlled by F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art of losing the French-Indian War, France ceded, or gave, the Louisiana Territory to Sp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800, the western boundary of the U.S. was the Mississipp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uisiana Territory, that is all lands west of the Mississippi River which drained into the river, was originally controlled by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losing the French-Indian War, France ceded, or gave, the Louisiana Territory to Spai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uisiana Territory continued to be controlled by Spain until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ar fought in Europe between Spain and France ended with a victory for Napoleon and the Fren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retly, the Louisiana Territory was transferred from Spain to France as a result of that European w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uisiana Territory continued to be controlled by Spain until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r fought in Europe between Spain and France ended with a victory for Napoleon and the Fren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retly, the Louisiana Territory was transferred from Spain to France as a result of that European wa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learned that Louisiana Territory was now controlled by F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ownership of the Louisiana Territory posed several problems for the U.S.—mainly the French were popular with the Indians and the French presence blocked any sort of westward movement by U.S. citizens into the Louisiana Terri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learned that Louisiana Territory was now controlled by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ownership of the Louisiana Territory posed several problems for the U.S.—mainly the French were popular with the Indians and the French presence blocked any sort of westward movement by U.S. citizens into the Louisiana Terri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major problem involved the city of New Orleans.  New Orleans controlled all river trade.  River trade came from not only the Louisiana Territory, but also from the United States.  If France decided to close the city of New Orleans to U.S. trade, then the U.S. would suffer great economic hardsh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major problem involved the city of New Orleans.  New Orleans controlled all river trade.  River trade came from not only the Louisiana Territory, but also from the United States.  If France decided to close the city of New Orleans to U.S. trade, then the U.S. would suffer great economic har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Background and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her: Peter Jeff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most sons of land owners, he studied land survey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uated from William and Mary University in Williamsburg, 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l, red-headed, qui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ckground and Edu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Peter Jeff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most sons of land owners, he studied land survey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uated from William and Mary University in Williamsburg, V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l, red-headed, qui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realized the problems involved with France owning the Louisiana Terri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sends Robert Livingston and James Monroe to buy New Orleans and West Florida for $2 million from F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ingston and Monroe may spend UP to $10 mil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realized the problems involved with France owning the Louisiana Terri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sends Robert Livingston and James Monroe to buy New Orleans and West Florida for $2 million from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ingston and Monroe may spend UP to $10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pite being more money and more land than expected, both Livingston and Monroe quickly agree to the 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al poses a personal problem for Jefferson—is this small government?  Still, Jefferson agrees to the 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debates the issue—lots of money involved—still, they agree to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being more money and more land than expected, both Livingston and Monroe quickly agree to the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al poses a personal problem for Jefferson—is this small government?  Still, Jefferson agrees to the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ress debates the issue—lots of money involved—still, they agree to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oleon experiences slave rebellion trouble in the French colony of Saint Domingue located in the Caribbe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oleon also needs money for another war with Great Britain.  He decides to sell ALL of the Louisiana Territory.  His price:  $15 mil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 experiences slave rebellion trouble in the French colony of Saint Domingue located in the Caribb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 also needs money for another war with Great Britain.  He decides to sell ALL of the Louisiana Territory.  His price:  $15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Louisiana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Louisiana Purch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variety of reasons, Jefferson decides to send a military expedition to explore the Louisiana Terri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s personal secretary, Captain Meriwether Lewis, is placed in charge of the expedition.  The men on this expediton are called the Corps of Discov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was to explore the territory, map it, find a water route to the Pacific, make friends with the Native Americans, and drive out all French and/or British traders if 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iwether Lew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variety of reasons, Jefferson decides to send a military expedition to explore the Louisiana Terri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s personal secretary, Captain Meriwether Lewis, is placed in charge of the expedition.  The men on this expediton are called the Corps of Discov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was to explore the territory, map it, find a water route to the Pacific, make friends with the Native Americans, and drive out all French and/or British traders if 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iwether Lew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selects Lt. William Clark as a co-commander.  The army refuses to recognize co-commanders so Clark remains a lieuten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n of the Corps of Discovery are told that Clark is a Captain and a co-commander of the expedi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nd Clark, along with the other members of the Corps of Discovery, depart St. Louis on May 14, 1804 and travels upri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top for the winter of 1805 in the Mandan villages and create Fort Mand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elects Lt. William Clark as a co-commander.  The army refuses to recognize co-commanders so Clark remains a lieuten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of the Corps of Discovery are told that Clark is a Captain and a co-commander of the expedi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and Clark, along with the other members of the Corps of Discovery, depart St. Louis on May 14, 1804 and travels up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top for the winter of 1805 in the Mandan villages and create Fort Mand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iam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Fort Mandan, Lewis and Clark hire the French trader Toussaint Charbonneau as an interpreter and guide.  The true prize was Charbonneau’s 2nd wife, Sacagawea and Sacagawea’s newborn infant 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bonneau proves useless.  Sacagawea, while not a guide, does prove helpful: no war party would travel with a woman and young child.  Sacagawea’s presence eases tensions between Corps of Discovery and the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Fort Mandan, Lewis and Clark hire the French trader Toussaint Charbonneau as an interpreter and guide.  The true prize was Charbonneau’s 2nd wife, Sacagawea and Sacagawea’s newborn infant 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bonneau proves useless.  Sacagawea, while not a guide, does prove helpful: no war party would travel with a woman and young child.  Sacagawea’s presence eases tensions between Corps of Discovery and the Ind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ps of Discovery reach the Pacific Ocean on November 7, 1805.  Clark writes: “Ocean in view! O! The jo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American vote involving an African-American (York), a female (Sacagawea), and men of several different nationalities takes place to decide where to stay for the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ps of Discovery create Fort Clatsop and spend the 1806 winter on the Pacific coast.  They experience problems with the n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ps of Discovery reach the Pacific Ocean on November 7, 1805.  Clark writes: “Ocean in view! O! The jo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American vote involving an African-American (York), a female (Sacagawea), and men of several different nationalities takes place to decide where to stay for the wi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ps of Discovery create Fort Clatsop and spend the 1806 winter on the Pacific coast.  They experience problems with the na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journey becomes a race down the Missouri River.  Lewis and Clark arrive in St. Louis on September 23, 180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veled almost 8,000 miles along the journey.  They mapped the entire distance using “line of sight” approximations.  They were off by only 4 mi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ewis and Cl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urney becomes a race down the Missouri River.  Lewis and Clark arrive in St. Louis on September 23, 180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traveled almost 8,000 miles along the journey.  They mapped the entire distance using “line of sight” approximations.  They were off by only 4 mi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Zebulon P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ebulon Pike also explores the western terri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ke reaches the Colorado area and finds the mountain which now bears his name:  Pike’s Pea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ke then moves south into the Spanish territories which eventually become Texas and Mexi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Zebulon Pik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bulon Pike also explores the western terri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ke reaches the Colorado area and finds the mountain which now bears his name:  Pike’s Pea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ke then moves south into the Spanish territories which eventually become Texas and Mexic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olitical Belief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vernment which governs least, governs b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ly favored States Rights as opposed to a strong national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ved in a strict construction, or strict interpretation, of the U.S.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to end all taxes of any kind paid by U.S. citiz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olitical Belief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vernment which governs least, governs b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ly favored States Rights as opposed to a strong national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in a strict construction, or strict interpretation, of the U.S.Constit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ed to end all taxes of any kind paid by U.S. citiz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Jefferson’s Ree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04, Jefferson was unquestioned success as a President.  He was easily reel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r decided to run for governor of New York.  Hamilton criticized Burr; Burr challenged Hamilton to a duel; Burr shoots and kills Hamilton.  Burr’s term as Vice President was not quite over at the time of the due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Jefferson’s Reel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804, Jefferson was unquestioned success as a President.  He was easily reelec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r decided to run for governor of New York.  Hamilton criticized Burr; Burr challenged Hamilton to a duel; Burr shoots and kills Hamilton.  Burr’s term as Vice President was not quite over at the time of the due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rates from the Barbary Coast States in the Mediterranean Sea demand tribute from U.S. trade sh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refuses to pay the tribu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rbary pirates from Tripoli declare war on the 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does not want to fight; instead, he orders a blockade of the port of Tripol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rates from the Barbary Coast States in the Mediterranean Sea demand tribute from U.S. trade shi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refuses to pay the tribu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rbary pirates from Tripoli declare war on the 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does not want to fight; instead, he orders a blockade of the port of Tripoli.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ockade eventually works.  The U.S. forces the pirates to sign a peace treaty which ends all tribute pay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litary action is popular in the U.S., but shows the need for a U.S. nav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puts aside his own personal problems with the government paying for a navy, and the country develops a stronger def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ockade eventually works.  The U.S. forces the pirates to sign a peace treaty which ends all tribute pay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litary action is popular in the U.S., but shows the need for a U.S. nav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puts aside his own personal problems with the government paying for a navy, and the country develops a stronger defen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Britain continues its policy of impr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essment is when the British kidnap U.S. sailors and force them to work as British sai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pressment issue becomes a big deal with the Chesapeake-Leopard Affair in June 180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Britain continues its policy of impress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essment is when the British kidnap U.S. sailors and force them to work as British sail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ressment issue becomes a big deal with the Chesapeake-Leopard Affair in June 180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deals with the impressment issue by asking for an embargo, or block of trade, against both Great Britain and F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passes the Embargo Act of 1807.  The main victim of the law was neither Great Britain nor France—it was the U.S. merchants who could no longer trade with either coun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deals with the impressment issue by asking for an embargo, or block of trade, against both Great Britain and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ress passes the Embargo Act of 1807.  The main victim of the law was neither Great Britain nor France—it was the U.S. merchants who could no longer trade with either coun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Jefferson’s 2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bargo Act proves EXTREMELY unpopular and Jefferson’s popularity suffers as a resu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ually, Congress repealed the Embargo Act and replaced it with the Non-Intercourse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n-Intercourse Act was no more successful than the Embargo Act.  American merchants and shipowners suffered grea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leaves office with a loss of resp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efferson’s 2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bargo Act proves EXTREMELY unpopular and Jefferson’s popularity suffers as a res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Congress repealed the Embargo Act and replaced it with the Non-Intercourse 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n-Intercourse Act was no more successful than the Embargo Act.  American merchants and shipowners suffered great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leaves office with a loss of resp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Jefferson after the Presid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mes Madison, the author of the Constitution, a Democratic-Republican, and Jefferson’s hand-picked successor becomes the next Pres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ison leads the country during the War of 18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Jefferson after the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es Madison, the author of the Constitution, a Democratic-Republican, and Jefferson’s hand-picked successor becomes the next Pres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ison leads the country during the War of 18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Jefferson after the Presid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renews his friendship with his long-term friend and political rival, John Ad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and Adams exchange tons of letters with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 and John Adams both die on the same day: July 4, 1826.  It was the 50th anniversary of the Declaration of Independence which both men help wr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Jefferson after the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renews his friendship with his long-term friend and political rival, John Ad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and Adams exchange tons of letters with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Jefferson and John Adams both die on the same day: July 4, 1826.  It was the 50th anniversary of the Declaration of Independence which both men help wr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ccomplishments Prior to becoming Pres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ote the first draft of the Declaration of 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ote the Statute of Virginia for Religious Freed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the University of Virgin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ed as an ambassador to Europe from the United St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ccomplishments Prior to becoming Pres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the first draft of the Declaration of Independ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the Statute of Virginia for Religious Freed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the University of Virgin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d as an ambassador to Europe from the United St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ic-Republican Candid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omas Jefferson and Aaron Bur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atic-Republican Candid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Jefferson and Aaron Bur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ist Candid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hn Adams and Charles C. Pinck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ist Candid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hn Adams and Charles C. Pinckn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would have won re-election, perhaps easily, had Alexander Hamilton not split the Federalist Pa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ms would have won re-election, perhaps easily, had Alexander Hamilton not split the Federalist Par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the Democratic-Republicans won the e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winning candidates, Jefferson and Burr, received 73 electoral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was settled the House of Representatives after 35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ilton swings the election to Jefferson and angers Bur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the Democratic-Republicans won the el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inning candidates, Jefferson and Burr, received 73 electoral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on was settled the House of Representatives after 35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ilton swings the election to Jefferson and angers Bur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 Election of 1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ssed up election pointed out the need for a Constitutional amendment regarding the Presidential election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2th Amendment modified the Constitution so that the President and the Vice-President are elected using separate ball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ion of 18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ssed up election pointed out the need for a Constitutional amendment regarding the Presidential election proc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th Amendment modified the Constitution so that the President and the Vice-President are elected using separate ball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194F32-F21C-4EE0-AB63-C041732108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63E46-F19D-4445-BE43-1C1C5D1C1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BFBDB0-B9B1-4935-A0E1-0FB2DD747D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9452AE-8B60-4309-A0C3-B52CFC7186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71C45-2A51-411C-94AE-43160FB6F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A2218-DFEC-4FB2-B66F-6644E5AD1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342CC-DA49-4037-8C17-F112A235D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7D54F-F9A5-4288-86FD-0A7E3D5CC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26745-C72F-42A7-85C1-96ABD63CD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CEE15-9372-4AA4-B2BE-AF2763F3E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1233F-5A1D-4697-864D-3DD01D47D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E876E-B712-41FB-B9FD-3100341ACC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6610D-8D28-4E12-8303-6AF79CC599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4114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mas Jeffers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5333760"/>
            <a:ext cx="6400800" cy="609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ntry’s Greatest President</a:t>
            </a:r>
            <a:endParaRPr b="0" lang="en-US" sz="3200" spc="-1" strike="noStrike">
              <a:solidFill>
                <a:srgbClr val="000000"/>
              </a:solidFill>
              <a:latin typeface="Arial"/>
            </a:endParaRPr>
          </a:p>
        </p:txBody>
      </p:sp>
      <p:pic>
        <p:nvPicPr>
          <p:cNvPr id="50" name="Picture 4" descr="thomas-jefferson-picture"/>
          <p:cNvPicPr/>
          <p:nvPr/>
        </p:nvPicPr>
        <p:blipFill>
          <a:blip r:embed="rId1"/>
          <a:stretch/>
        </p:blipFill>
        <p:spPr>
          <a:xfrm>
            <a:off x="2743200" y="533520"/>
            <a:ext cx="3809880" cy="366696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Adams, the 1</a:t>
            </a:r>
            <a:r>
              <a:rPr b="0" lang="en-US" sz="3200" spc="-1" strike="noStrike" baseline="30000">
                <a:solidFill>
                  <a:srgbClr val="000000"/>
                </a:solidFill>
                <a:latin typeface="Arial"/>
              </a:rPr>
              <a:t>st</a:t>
            </a:r>
            <a:r>
              <a:rPr b="0" lang="en-US" sz="3200" spc="-1" strike="noStrike">
                <a:solidFill>
                  <a:srgbClr val="000000"/>
                </a:solidFill>
                <a:latin typeface="Arial"/>
              </a:rPr>
              <a:t> President to live in Washington, D.C., leaves before Jefferson’s inaugu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s Inauguration takes place on March 4, 1801 in Washington, D.C.—the 1</a:t>
            </a:r>
            <a:r>
              <a:rPr b="0" lang="en-US" sz="3200" spc="-1" strike="noStrike" baseline="30000">
                <a:solidFill>
                  <a:srgbClr val="000000"/>
                </a:solidFill>
                <a:latin typeface="Arial"/>
              </a:rPr>
              <a:t>st</a:t>
            </a:r>
            <a:r>
              <a:rPr b="0" lang="en-US" sz="3200" spc="-1" strike="noStrike">
                <a:solidFill>
                  <a:srgbClr val="000000"/>
                </a:solidFill>
                <a:latin typeface="Arial"/>
              </a:rPr>
              <a:t> done t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finished White House and Capitol were just about the only buildings in town</a:t>
            </a:r>
            <a:endParaRPr b="0" lang="en-US" sz="32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eralists fear what Jefferson will say—will he start a new rev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surprisingly, calls for unity—he states “We are all Republicans, we are all Federali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DOES NOT propose to change or destroy the structure of the federal government.</a:t>
            </a:r>
            <a:endParaRPr b="0" lang="en-US" sz="3200" spc="-1" strike="noStrike">
              <a:solidFill>
                <a:srgbClr val="000000"/>
              </a:solidFill>
              <a:latin typeface="Arial"/>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 Accomplishments made during early part of Jefferson’s 1</a:t>
            </a:r>
            <a:r>
              <a:rPr b="0" lang="en-US" sz="4000" spc="-1" strike="noStrike" baseline="30000">
                <a:solidFill>
                  <a:srgbClr val="000000"/>
                </a:solidFill>
                <a:latin typeface="Arial"/>
              </a:rPr>
              <a:t>st</a:t>
            </a:r>
            <a:r>
              <a:rPr b="0" lang="en-US" sz="4000" spc="-1" strike="noStrike">
                <a:solidFill>
                  <a:srgbClr val="000000"/>
                </a:solidFill>
                <a:latin typeface="Arial"/>
              </a:rPr>
              <a:t> term</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ointed Albert Gallatin as Secretary of the Treasu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t military spe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d the army from 4000 to 2500 m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d the navy from 25 to 7 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d national debt from $83 million to $45 mill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t ALL internal taxes</a:t>
            </a:r>
            <a:endParaRPr b="0" lang="en-US" sz="3200" spc="-1" strike="noStrike">
              <a:solidFill>
                <a:srgbClr val="000000"/>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 Accomplishments made during early part of Jefferson’s 1</a:t>
            </a:r>
            <a:r>
              <a:rPr b="0" lang="en-US" sz="4000" spc="-1" strike="noStrike" baseline="30000">
                <a:solidFill>
                  <a:srgbClr val="000000"/>
                </a:solidFill>
                <a:latin typeface="Arial"/>
              </a:rPr>
              <a:t>st</a:t>
            </a:r>
            <a:r>
              <a:rPr b="0" lang="en-US" sz="4000" spc="-1" strike="noStrike">
                <a:solidFill>
                  <a:srgbClr val="000000"/>
                </a:solidFill>
                <a:latin typeface="Arial"/>
              </a:rPr>
              <a:t> term</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source of government income: tariffs and sales of Western l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the Alien and Sedition Acts expire</a:t>
            </a:r>
            <a:endParaRPr b="0" lang="en-US" sz="32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Issues with the Court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bury vs. Madison:  Does William Marbury, one of John Adams’ last minute “midnight judges,” receive his commission to be judge or no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had James Madison refuse to give the commission to Marbu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sue went before the Supreme Cour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ing became a precedent—an example for future court cases</a:t>
            </a:r>
            <a:endParaRPr b="0" lang="en-US" sz="32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Issues with the Court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Marbury vs. Madison, the Supreme Court established the concept of “Judicial Review” of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dicial Review means that the Court may decide if a law is constitutional or n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law is judged to be unconstitutional, or goes against the U.S. Constitution, then the law ceases to be a law.</a:t>
            </a:r>
            <a:endParaRPr b="0" lang="en-US" sz="32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1800, the western boundary of the U.S. was the Mississipp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uisiana Territory, that is all lands west of the Mississippi River which drained into the river, was originally controlled by Fra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part of losing the French-Indian War, France ceded, or gave, the Louisiana Territory to Spain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uisiana Territory continued to be controlled by Spain until 18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ar fought in Europe between Spain and France ended with a victory for Napoleon and the Fren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retly, the Louisiana Territory was transferred from Spain to France as a result of that European war.  </a:t>
            </a:r>
            <a:endParaRPr b="0" lang="en-US" sz="32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learned that Louisiana Territory was now controlled by Fra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nch ownership of the Louisiana Territory posed several problems for the U.S.—mainly the French were popular with the Indians and the French presence blocked any sort of westward movement by U.S. citizens into the Louisiana Territory</a:t>
            </a:r>
            <a:endParaRPr b="0" lang="en-US" sz="3200" spc="-1" strike="noStrike">
              <a:solidFill>
                <a:srgbClr val="000000"/>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ther major problem involved the city of New Orleans.  New Orleans controlled all river trade.  River trade came from not only the Louisiana Territory, but also from the United States.  If France decided to close the city of New Orleans to U.S. trade, then the U.S. would suffer great economic hardship.</a:t>
            </a:r>
            <a:endParaRPr b="0" lang="en-US" sz="32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Background and Education</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ther: Peter Jeffer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most sons of land owners, he studied land survey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uated from William and Mary University in Williamsburg, V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l, red-headed, quiet</a:t>
            </a:r>
            <a:endParaRPr b="0" lang="en-US" sz="32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realized the problems involved with France owning the Louisiana Territ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sends Robert Livingston and James Monroe to buy New Orleans and West Florida for $2 million from Fr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vingston and Monroe may spend UP to $10 million.</a:t>
            </a:r>
            <a:endParaRPr b="0" lang="en-US" sz="32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pite being more money and more land than expected, both Livingston and Monroe quickly agree to the de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al poses a personal problem for Jefferson—is this small government?  Still, Jefferson agrees to the de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 debates the issue—lots of money involved—still, they agree to it.</a:t>
            </a:r>
            <a:endParaRPr b="0" lang="en-US" sz="3200" spc="-1" strike="noStrike">
              <a:solidFill>
                <a:srgbClr val="000000"/>
              </a:solidFill>
              <a:latin typeface="Arial"/>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oleon experiences slave rebellion trouble in the French colony of Saint Domingue located in the Caribbe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oleon also needs money for another war with Great Britain.  He decides to sell ALL of the Louisiana Territory.  His price:  $15 million.</a:t>
            </a:r>
            <a:endParaRPr b="0" lang="en-US"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The Louisiana Purchase</a:t>
            </a:r>
            <a:endParaRPr b="0" lang="en-US" sz="4400" spc="-1" strike="noStrike">
              <a:solidFill>
                <a:srgbClr val="000000"/>
              </a:solidFill>
              <a:latin typeface="Arial"/>
            </a:endParaRPr>
          </a:p>
        </p:txBody>
      </p:sp>
      <p:pic>
        <p:nvPicPr>
          <p:cNvPr id="121" name="Picture 4" descr="louisianamapbig"/>
          <p:cNvPicPr/>
          <p:nvPr/>
        </p:nvPicPr>
        <p:blipFill>
          <a:blip r:embed="rId1"/>
          <a:stretch/>
        </p:blipFill>
        <p:spPr>
          <a:xfrm>
            <a:off x="304920" y="1295280"/>
            <a:ext cx="8601120" cy="5413320"/>
          </a:xfrm>
          <a:prstGeom prst="rect">
            <a:avLst/>
          </a:prstGeom>
          <a:ln w="0">
            <a:noFill/>
          </a:ln>
        </p:spPr>
      </p:pic>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556272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variety of reasons, Jefferson decides to send a military expedition to explore the Louisiana Territo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fferson’s personal secretary, Captain Meriwether Lewis, is placed in charge of the expedition.  The men on this expediton are called the Corps of Discove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wis was to explore the territory, map it, find a water route to the Pacific, make friends with the Native Americans, and drive out all French and/or British traders if possible.</a:t>
            </a:r>
            <a:endParaRPr b="0" lang="en-US" sz="2400" spc="-1" strike="noStrike">
              <a:solidFill>
                <a:srgbClr val="000000"/>
              </a:solidFill>
              <a:latin typeface="Arial"/>
            </a:endParaRPr>
          </a:p>
        </p:txBody>
      </p:sp>
      <p:pic>
        <p:nvPicPr>
          <p:cNvPr id="125" name="Picture 4" descr="Lewis_1"/>
          <p:cNvPicPr/>
          <p:nvPr/>
        </p:nvPicPr>
        <p:blipFill>
          <a:blip r:embed="rId1"/>
          <a:stretch/>
        </p:blipFill>
        <p:spPr>
          <a:xfrm>
            <a:off x="6095880" y="1752480"/>
            <a:ext cx="2705400" cy="3772080"/>
          </a:xfrm>
          <a:prstGeom prst="rect">
            <a:avLst/>
          </a:prstGeom>
          <a:ln w="0">
            <a:noFill/>
          </a:ln>
        </p:spPr>
      </p:pic>
      <p:sp>
        <p:nvSpPr>
          <p:cNvPr id="126" name="Text Box 6"/>
          <p:cNvSpPr/>
          <p:nvPr/>
        </p:nvSpPr>
        <p:spPr>
          <a:xfrm>
            <a:off x="6248520" y="5715000"/>
            <a:ext cx="2419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riwether Lewis</a:t>
            </a:r>
            <a:endParaRPr b="0" lang="en-US" sz="2000" spc="-1" strike="noStrike">
              <a:solidFill>
                <a:srgbClr val="000000"/>
              </a:solidFill>
              <a:latin typeface="Arial"/>
            </a:endParaRPr>
          </a:p>
        </p:txBody>
      </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29" name="PlaceHolder 2"/>
          <p:cNvSpPr>
            <a:spLocks noGrp="1"/>
          </p:cNvSpPr>
          <p:nvPr>
            <p:ph/>
          </p:nvPr>
        </p:nvSpPr>
        <p:spPr>
          <a:xfrm>
            <a:off x="457200" y="1294920"/>
            <a:ext cx="5410080" cy="541044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wis selects Lt. William Clark as a co-commander.  The army refuses to recognize co-commanders so Clark remains a lieutena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n of the Corps of Discovery are told that Clark is a Captain and a co-commander of the expedition.  </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wis and Clark, along with the other members of the Corps of Discovery, depart St. Louis on May 14, 1804 and travels upriv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stop for the winter of 1805 in the Mandan villages and create Fort Mandan.</a:t>
            </a:r>
            <a:endParaRPr b="0" lang="en-US" sz="2400" spc="-1" strike="noStrike">
              <a:solidFill>
                <a:srgbClr val="000000"/>
              </a:solidFill>
              <a:latin typeface="Arial"/>
            </a:endParaRPr>
          </a:p>
        </p:txBody>
      </p:sp>
      <p:pic>
        <p:nvPicPr>
          <p:cNvPr id="130" name="Picture 4" descr="Clark_1"/>
          <p:cNvPicPr/>
          <p:nvPr/>
        </p:nvPicPr>
        <p:blipFill>
          <a:blip r:embed="rId1"/>
          <a:stretch/>
        </p:blipFill>
        <p:spPr>
          <a:xfrm>
            <a:off x="6095880" y="1905120"/>
            <a:ext cx="2705400" cy="3800520"/>
          </a:xfrm>
          <a:prstGeom prst="rect">
            <a:avLst/>
          </a:prstGeom>
          <a:ln w="0">
            <a:noFill/>
          </a:ln>
        </p:spPr>
      </p:pic>
      <p:sp>
        <p:nvSpPr>
          <p:cNvPr id="131" name="Text Box 6"/>
          <p:cNvSpPr/>
          <p:nvPr/>
        </p:nvSpPr>
        <p:spPr>
          <a:xfrm>
            <a:off x="6324480" y="5867280"/>
            <a:ext cx="2419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iam Clark</a:t>
            </a:r>
            <a:endParaRPr b="0" lang="en-US" sz="2000" spc="-1" strike="noStrike">
              <a:solidFill>
                <a:srgbClr val="000000"/>
              </a:solidFill>
              <a:latin typeface="Arial"/>
            </a:endParaRPr>
          </a:p>
        </p:txBody>
      </p:sp>
      <p:sp>
        <p:nvSpPr>
          <p:cNvPr id="1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Fort Mandan, Lewis and Clark hire the French trader Toussaint Charbonneau as an interpreter and guide.  The true prize was Charbonneau’s 2</a:t>
            </a:r>
            <a:r>
              <a:rPr b="0" lang="en-US" sz="2800" spc="-1" strike="noStrike" baseline="30000">
                <a:solidFill>
                  <a:srgbClr val="000000"/>
                </a:solidFill>
                <a:latin typeface="Arial"/>
              </a:rPr>
              <a:t>nd</a:t>
            </a:r>
            <a:r>
              <a:rPr b="0" lang="en-US" sz="2800" spc="-1" strike="noStrike">
                <a:solidFill>
                  <a:srgbClr val="000000"/>
                </a:solidFill>
                <a:latin typeface="Arial"/>
              </a:rPr>
              <a:t> wife, Sacagawea and Sacagawea’s newborn infant s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bonneau proves useless.  Sacagawea, while not a guide, does prove helpful: no war party would travel with a woman and young child.  Sacagawea’s presence eases tensions between Corps of Discovery and the Indians.</a:t>
            </a:r>
            <a:endParaRPr b="0" lang="en-US" sz="2800" spc="-1" strike="noStrike">
              <a:solidFill>
                <a:srgbClr val="000000"/>
              </a:solidFill>
              <a:latin typeface="Arial"/>
            </a:endParaRPr>
          </a:p>
        </p:txBody>
      </p:sp>
      <p:sp>
        <p:nvSpPr>
          <p:cNvPr id="1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rps of Discovery reach the Pacific Ocean on November 7, 1805.  Clark writes: “Ocean in view! O! The jo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American vote involving an African-American (York), a female (Sacagawea), and men of several different nationalities takes place to decide where to stay for the win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rps of Discovery create Fort Clatsop and spend the 1806 winter on the Pacific coast.  They experience problems with the natives.</a:t>
            </a:r>
            <a:endParaRPr b="0" lang="en-US" sz="2800" spc="-1" strike="noStrike">
              <a:solidFill>
                <a:srgbClr val="000000"/>
              </a:solidFill>
              <a:latin typeface="Arial"/>
            </a:endParaRPr>
          </a:p>
        </p:txBody>
      </p:sp>
      <p:sp>
        <p:nvSpPr>
          <p:cNvPr id="1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Lewis and Clark</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ourney becomes a race down the Missouri River.  Lewis and Clark arrive in St. Louis on September 23, 18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traveled almost 8,000 miles along the journey.  They mapped the entire distance using “line of sight” approximations.  They were off by only 4 miles. </a:t>
            </a:r>
            <a:endParaRPr b="0" lang="en-US" sz="3200" spc="-1" strike="noStrike">
              <a:solidFill>
                <a:srgbClr val="000000"/>
              </a:solidFill>
              <a:latin typeface="Arial"/>
            </a:endParaRPr>
          </a:p>
        </p:txBody>
      </p:sp>
      <p:sp>
        <p:nvSpPr>
          <p:cNvPr id="1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 Zebulon Pike</a:t>
            </a:r>
            <a:endParaRPr b="0" lang="en-US" sz="4400" spc="-1" strike="noStrike">
              <a:solidFill>
                <a:srgbClr val="000000"/>
              </a:solidFill>
              <a:latin typeface="Arial"/>
            </a:endParaRPr>
          </a:p>
        </p:txBody>
      </p:sp>
      <p:sp>
        <p:nvSpPr>
          <p:cNvPr id="143" name="PlaceHolder 2"/>
          <p:cNvSpPr>
            <a:spLocks noGrp="1"/>
          </p:cNvSpPr>
          <p:nvPr>
            <p:ph/>
          </p:nvPr>
        </p:nvSpPr>
        <p:spPr>
          <a:xfrm>
            <a:off x="3733920" y="1676520"/>
            <a:ext cx="50292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bulon Pike also explores the western territory.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ke reaches the Colorado area and finds the mountain which now bears his name:  Pike’s Peak.</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ke then moves south into the Spanish territories which eventually become Texas and Mexico.</a:t>
            </a:r>
            <a:endParaRPr b="0" lang="en-US" sz="2800" spc="-1" strike="noStrike">
              <a:solidFill>
                <a:srgbClr val="000000"/>
              </a:solidFill>
              <a:latin typeface="Arial"/>
            </a:endParaRPr>
          </a:p>
        </p:txBody>
      </p:sp>
      <p:pic>
        <p:nvPicPr>
          <p:cNvPr id="144" name="Picture 7" descr="ZebulonPike"/>
          <p:cNvPicPr/>
          <p:nvPr/>
        </p:nvPicPr>
        <p:blipFill>
          <a:blip r:embed="rId1"/>
          <a:stretch/>
        </p:blipFill>
        <p:spPr>
          <a:xfrm>
            <a:off x="533520" y="1676520"/>
            <a:ext cx="3028680" cy="4495680"/>
          </a:xfrm>
          <a:prstGeom prst="rect">
            <a:avLst/>
          </a:prstGeom>
          <a:ln w="0">
            <a:noFill/>
          </a:ln>
        </p:spPr>
      </p:pic>
      <p:sp>
        <p:nvSpPr>
          <p:cNvPr id="1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Political Belief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vernment which governs least, governs b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ly favored States Rights as opposed to a strong national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ieved in a strict construction, or strict interpretation, of the U.S.Constit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nted to end all taxes of any kind paid by U.S. citizens</a:t>
            </a:r>
            <a:endParaRPr b="0" lang="en-US" sz="3200" spc="-1" strike="noStrike">
              <a:solidFill>
                <a:srgbClr val="000000"/>
              </a:solidFill>
              <a:latin typeface="Arial"/>
            </a:endParaRPr>
          </a:p>
        </p:txBody>
      </p:sp>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  Jefferson’s Reelection</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1804, Jefferson was unquestioned success as a President.  He was easily reelec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rr decided to run for governor of New York.  Hamilton criticized Burr; Burr challenged Hamilton to a duel; Burr shoots and kills Hamilton.  Burr’s term as Vice President was not quite over at the time of the duel. </a:t>
            </a:r>
            <a:endParaRPr b="0" lang="en-US" sz="3200" spc="-1" strike="noStrike">
              <a:solidFill>
                <a:srgbClr val="000000"/>
              </a:solidFill>
              <a:latin typeface="Arial"/>
            </a:endParaRPr>
          </a:p>
        </p:txBody>
      </p:sp>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rates from the Barbary Coast States in the Mediterranean Sea demand tribute from U.S. trade 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refuses to pay the tribu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rbary pirates from Tripoli declare war on the 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does not want to fight; instead, he orders a blockade of the port of Tripoli. </a:t>
            </a:r>
            <a:endParaRPr b="0" lang="en-US" sz="3200" spc="-1" strike="noStrike">
              <a:solidFill>
                <a:srgbClr val="000000"/>
              </a:solidFill>
              <a:latin typeface="Arial"/>
            </a:endParaRPr>
          </a:p>
        </p:txBody>
      </p:sp>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lockade eventually works.  The U.S. forces the pirates to sign a peace treaty which ends all tribute pay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ilitary action is popular in the U.S., but shows the need for a U.S. nav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puts aside his own personal problems with the government paying for a navy, and the country develops a stronger defense.</a:t>
            </a:r>
            <a:endParaRPr b="0" lang="en-US" sz="3200" spc="-1" strike="noStrike">
              <a:solidFill>
                <a:srgbClr val="000000"/>
              </a:solidFill>
              <a:latin typeface="Arial"/>
            </a:endParaRPr>
          </a:p>
        </p:txBody>
      </p:sp>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 Britain continues its policy of impress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essment is when the British kidnap U.S. sailors and force them to work as British sail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mpressment issue becomes a big deal with the Chesapeake-Leopard Affair in June 1807.</a:t>
            </a:r>
            <a:endParaRPr b="0" lang="en-US" sz="3200" spc="-1" strike="noStrike">
              <a:solidFill>
                <a:srgbClr val="000000"/>
              </a:solidFill>
              <a:latin typeface="Arial"/>
            </a:endParaRPr>
          </a:p>
        </p:txBody>
      </p:sp>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deals with the impressment issue by asking for an embargo, or block of trade, against both Great Britain and Fra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 passes the Embargo Act of 1807.  The main victim of the law was neither Great Britain nor France—it was the U.S. merchants who could no longer trade with either country.</a:t>
            </a:r>
            <a:endParaRPr b="0" lang="en-US" sz="3200" spc="-1" strike="noStrike">
              <a:solidFill>
                <a:srgbClr val="000000"/>
              </a:solidFill>
              <a:latin typeface="Arial"/>
            </a:endParaRPr>
          </a:p>
        </p:txBody>
      </p:sp>
      <p:sp>
        <p:nvSpPr>
          <p:cNvPr id="1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Jefferson’s 2</a:t>
            </a:r>
            <a:r>
              <a:rPr b="0" lang="en-US" sz="4400" spc="-1" strike="noStrike" baseline="30000">
                <a:solidFill>
                  <a:srgbClr val="000000"/>
                </a:solidFill>
                <a:latin typeface="Arial"/>
              </a:rPr>
              <a:t>nd</a:t>
            </a:r>
            <a:r>
              <a:rPr b="0" lang="en-US" sz="4400" spc="-1" strike="noStrike">
                <a:solidFill>
                  <a:srgbClr val="000000"/>
                </a:solidFill>
                <a:latin typeface="Arial"/>
              </a:rPr>
              <a:t> Term</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mbargo Act proves EXTREMELY unpopular and Jefferson’s popularity suffers as a resul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ually, Congress repealed the Embargo Act and replaced it with the Non-Intercourse A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n-Intercourse Act was no more successful than the Embargo Act.  American merchants and shipowners suffered great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fferson leaves office with a loss of respect.</a:t>
            </a:r>
            <a:endParaRPr b="0" lang="en-US" sz="2800" spc="-1" strike="noStrike">
              <a:solidFill>
                <a:srgbClr val="000000"/>
              </a:solidFill>
              <a:latin typeface="Arial"/>
            </a:endParaRPr>
          </a:p>
        </p:txBody>
      </p:sp>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2. Jefferson after the Presidency</a:t>
            </a:r>
            <a:endParaRPr b="0" lang="en-US" sz="4000" spc="-1" strike="noStrike">
              <a:solidFill>
                <a:srgbClr val="000000"/>
              </a:solidFill>
              <a:latin typeface="Arial"/>
            </a:endParaRPr>
          </a:p>
        </p:txBody>
      </p:sp>
      <p:sp>
        <p:nvSpPr>
          <p:cNvPr id="165" name="PlaceHolder 2"/>
          <p:cNvSpPr>
            <a:spLocks noGrp="1"/>
          </p:cNvSpPr>
          <p:nvPr>
            <p:ph/>
          </p:nvPr>
        </p:nvSpPr>
        <p:spPr>
          <a:xfrm>
            <a:off x="228600" y="1600200"/>
            <a:ext cx="4952880" cy="4038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mes Madison, the author of the Constitution, a Democratic-Republican, and Jefferson’s hand-picked successor becomes the next Presid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ison leads the country during the War of 1812.</a:t>
            </a:r>
            <a:endParaRPr b="0" lang="en-US" sz="2800" spc="-1" strike="noStrike">
              <a:solidFill>
                <a:srgbClr val="000000"/>
              </a:solidFill>
              <a:latin typeface="Arial"/>
            </a:endParaRPr>
          </a:p>
        </p:txBody>
      </p:sp>
      <p:pic>
        <p:nvPicPr>
          <p:cNvPr id="166" name="Picture 4" descr="james-madison-picture"/>
          <p:cNvPicPr/>
          <p:nvPr/>
        </p:nvPicPr>
        <p:blipFill>
          <a:blip r:embed="rId1"/>
          <a:stretch/>
        </p:blipFill>
        <p:spPr>
          <a:xfrm>
            <a:off x="5334120" y="1600200"/>
            <a:ext cx="3571920" cy="331488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2. Jefferson after the Presidency</a:t>
            </a:r>
            <a:endParaRPr b="0" lang="en-US" sz="40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renews his friendship with his long-term friend and political rival, John Ada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fferson and Adams exchange tons of letters with each oth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mas Jefferson and John Adams both die on the same day: July 4, 1826.  It was the 50</a:t>
            </a:r>
            <a:r>
              <a:rPr b="0" lang="en-US" sz="3200" spc="-1" strike="noStrike" baseline="30000">
                <a:solidFill>
                  <a:srgbClr val="000000"/>
                </a:solidFill>
                <a:latin typeface="Arial"/>
              </a:rPr>
              <a:t>th</a:t>
            </a:r>
            <a:r>
              <a:rPr b="0" lang="en-US" sz="3200" spc="-1" strike="noStrike">
                <a:solidFill>
                  <a:srgbClr val="000000"/>
                </a:solidFill>
                <a:latin typeface="Arial"/>
              </a:rPr>
              <a:t> anniversary of the Declaration of Independence which both men help write.</a:t>
            </a:r>
            <a:endParaRPr b="0" lang="en-US" sz="3200" spc="-1" strike="noStrike">
              <a:solidFill>
                <a:srgbClr val="000000"/>
              </a:solidFill>
              <a:latin typeface="Arial"/>
            </a:endParaRPr>
          </a:p>
        </p:txBody>
      </p:sp>
      <p:sp>
        <p:nvSpPr>
          <p:cNvPr id="1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Accomplishments Prior to becoming President</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ote the first draft of the Declaration of Indepen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ote the Statute of Virginia for Religious Freed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the University of Virgin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d as an ambassador to Europe from the United States  </a:t>
            </a:r>
            <a:endParaRPr b="0" lang="en-US" sz="3200" spc="-1" strike="noStrike">
              <a:solidFill>
                <a:srgbClr val="000000"/>
              </a:solidFill>
              <a:latin typeface="Arial"/>
            </a:endParaRPr>
          </a:p>
        </p:txBody>
      </p:sp>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153280" cy="1219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cratic-Republican Candidat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omas Jefferson and Aaron Bur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3" name="Picture 4" descr="thomas-jefferson-picture"/>
          <p:cNvPicPr/>
          <p:nvPr/>
        </p:nvPicPr>
        <p:blipFill>
          <a:blip r:embed="rId1"/>
          <a:stretch/>
        </p:blipFill>
        <p:spPr>
          <a:xfrm>
            <a:off x="1143000" y="2895480"/>
            <a:ext cx="3262320" cy="3138480"/>
          </a:xfrm>
          <a:prstGeom prst="rect">
            <a:avLst/>
          </a:prstGeom>
          <a:ln w="0">
            <a:noFill/>
          </a:ln>
        </p:spPr>
      </p:pic>
      <p:pic>
        <p:nvPicPr>
          <p:cNvPr id="64" name="Picture 6" descr="aaronburr-sm"/>
          <p:cNvPicPr/>
          <p:nvPr/>
        </p:nvPicPr>
        <p:blipFill>
          <a:blip r:embed="rId2"/>
          <a:stretch/>
        </p:blipFill>
        <p:spPr>
          <a:xfrm>
            <a:off x="5715000" y="2895480"/>
            <a:ext cx="2349360" cy="3124440"/>
          </a:xfrm>
          <a:prstGeom prst="rect">
            <a:avLst/>
          </a:prstGeom>
          <a:ln w="0">
            <a:noFill/>
          </a:ln>
        </p:spPr>
      </p:pic>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8153280" cy="1143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ist Candidat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John Adams and Charles C. Pinckne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Picture 4" descr="JohnAdams"/>
          <p:cNvPicPr/>
          <p:nvPr/>
        </p:nvPicPr>
        <p:blipFill>
          <a:blip r:embed="rId1"/>
          <a:stretch/>
        </p:blipFill>
        <p:spPr>
          <a:xfrm>
            <a:off x="1263600" y="2895480"/>
            <a:ext cx="2743200" cy="3200400"/>
          </a:xfrm>
          <a:prstGeom prst="rect">
            <a:avLst/>
          </a:prstGeom>
          <a:ln w="0">
            <a:noFill/>
          </a:ln>
        </p:spPr>
      </p:pic>
      <p:pic>
        <p:nvPicPr>
          <p:cNvPr id="69" name="Picture 6" descr="CharlesCPinckney"/>
          <p:cNvPicPr/>
          <p:nvPr/>
        </p:nvPicPr>
        <p:blipFill>
          <a:blip r:embed="rId2"/>
          <a:stretch/>
        </p:blipFill>
        <p:spPr>
          <a:xfrm>
            <a:off x="5410080" y="2895480"/>
            <a:ext cx="2268720" cy="3200400"/>
          </a:xfrm>
          <a:prstGeom prst="rect">
            <a:avLst/>
          </a:prstGeom>
          <a:ln w="0">
            <a:noFill/>
          </a:ln>
        </p:spPr>
      </p:pic>
      <p:sp>
        <p:nvSpPr>
          <p:cNvPr id="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72" name="PlaceHolder 2"/>
          <p:cNvSpPr>
            <a:spLocks noGrp="1"/>
          </p:cNvSpPr>
          <p:nvPr>
            <p:ph/>
          </p:nvPr>
        </p:nvSpPr>
        <p:spPr>
          <a:xfrm>
            <a:off x="456840" y="1599840"/>
            <a:ext cx="8381880" cy="1523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ms would have won re-election, perhaps easily, had Alexander Hamilton not split the Federalist Party </a:t>
            </a:r>
            <a:endParaRPr b="0" lang="en-US" sz="2800" spc="-1" strike="noStrike">
              <a:solidFill>
                <a:srgbClr val="000000"/>
              </a:solidFill>
              <a:latin typeface="Arial"/>
            </a:endParaRPr>
          </a:p>
        </p:txBody>
      </p:sp>
      <p:pic>
        <p:nvPicPr>
          <p:cNvPr id="73" name="Picture 4" descr="300px-Alexander_Hamilton"/>
          <p:cNvPicPr/>
          <p:nvPr/>
        </p:nvPicPr>
        <p:blipFill>
          <a:blip r:embed="rId1"/>
          <a:stretch/>
        </p:blipFill>
        <p:spPr>
          <a:xfrm>
            <a:off x="3479760" y="2971800"/>
            <a:ext cx="2540160" cy="3581280"/>
          </a:xfrm>
          <a:prstGeom prst="rect">
            <a:avLst/>
          </a:prstGeom>
          <a:ln w="0">
            <a:noFill/>
          </a:ln>
        </p:spPr>
      </p:pic>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ead, the Democratic-Republicans won the el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winning candidates, Jefferson and Burr, received 73 electoral vo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ion was settled the House of Representatives after 35 vo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ilton swings the election to Jefferson and angers Burr</a:t>
            </a:r>
            <a:endParaRPr b="0" lang="en-US" sz="3200" spc="-1" strike="noStrike">
              <a:solidFill>
                <a:srgbClr val="000000"/>
              </a:solidFill>
              <a:latin typeface="Arial"/>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he Election of 1800</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ssed up election pointed out the need for a Constitutional amendment regarding the Presidential election 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12</a:t>
            </a:r>
            <a:r>
              <a:rPr b="0" lang="en-US" sz="3200" spc="-1" strike="noStrike" baseline="30000">
                <a:solidFill>
                  <a:srgbClr val="000000"/>
                </a:solidFill>
                <a:latin typeface="Arial"/>
              </a:rPr>
              <a:t>th</a:t>
            </a:r>
            <a:r>
              <a:rPr b="0" lang="en-US" sz="3200" spc="-1" strike="noStrike">
                <a:solidFill>
                  <a:srgbClr val="000000"/>
                </a:solidFill>
                <a:latin typeface="Arial"/>
              </a:rPr>
              <a:t> Amendment modified the Constitution so that the President and the Vice-President are elected using separate ballots.</a:t>
            </a:r>
            <a:endParaRPr b="0" lang="en-US" sz="32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1T20:45:06Z</dcterms:created>
  <dc:creator>Jeff Stephenson</dc:creator>
  <dc:description/>
  <dc:language>en-US</dc:language>
  <cp:lastModifiedBy>Legion</cp:lastModifiedBy>
  <dcterms:modified xsi:type="dcterms:W3CDTF">2017-07-06T06:41:49Z</dcterms:modified>
  <cp:revision>11</cp:revision>
  <dc:subject/>
  <dc:title>PowerPoint Presentation  -  Thomas Jefferson</dc:title>
</cp:coreProperties>
</file>